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18.wmf" ContentType="image/x-wmf"/>
  <Override PartName="/ppt/media/image26.jpeg" ContentType="image/jpeg"/>
  <Override PartName="/ppt/media/image4.jpeg" ContentType="image/jpeg"/>
  <Override PartName="/ppt/media/image2.png" ContentType="image/png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jpeg" ContentType="image/jpeg"/>
  <Override PartName="/ppt/media/image20.jpeg" ContentType="image/jpeg"/>
  <Override PartName="/ppt/media/image17.wmf" ContentType="image/x-wmf"/>
  <Override PartName="/ppt/media/image15.wmf" ContentType="image/x-wmf"/>
  <Override PartName="/ppt/media/image16.wmf" ContentType="image/x-wmf"/>
  <Override PartName="/ppt/media/image14.jpeg" ContentType="image/jpeg"/>
  <Override PartName="/ppt/media/image1.gif" ContentType="image/gif"/>
  <Override PartName="/ppt/media/image27.png" ContentType="image/png"/>
  <Override PartName="/ppt/media/image3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6F69-47DA-4942-8446-1BDD157D1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72010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94920" y="4367520"/>
            <a:ext cx="72010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D3B-E2E6-4E8A-9B20-8E8460C4D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9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08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9F75-7715-456A-87FF-C3750009C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829600" y="206064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264280" y="206064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94920" y="436752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829600" y="436752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264280" y="436752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0789-E7F6-4D1E-BD0E-E0661741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0404-505F-4F17-B001-6AE058A0D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7201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79988-A060-463B-B9A7-375F4FA65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72010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D50E0-72DE-4A7E-8467-86CA92AF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32E8-ABEE-45C0-BE86-9EE7B5B19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694A1-F200-42A7-AEE8-933C2A37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633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E5F1F-2DBC-46E5-B804-0F47CA3E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4C30B-EFEC-44C8-8360-31B395A5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394920" y="2060640"/>
            <a:ext cx="7201080" cy="441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50E-4A13-403F-BB73-A94FD9C44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08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BDB6-7700-4429-8F1A-69A671DF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4920" y="4367520"/>
            <a:ext cx="72010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98F6-CADB-4B1C-A47A-9F75FA5C1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72010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4920" y="4367520"/>
            <a:ext cx="72010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2FD8B-8B05-414E-BB78-C995E909E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9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08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ACB3B-EC75-4EB5-8654-8F3CDFD4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2829600" y="206064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264280" y="206064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94920" y="436752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2829600" y="436752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264280" y="4367520"/>
            <a:ext cx="231840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DA45-40F9-40DA-A605-322AADCC1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72010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FF1C-4F1A-438C-85BF-7B74A073F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6D77-570E-4F71-AD03-6BF33B8F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187E-2E68-47E0-8385-7EBC19F97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68000" y="333000"/>
            <a:ext cx="633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776-1EAA-4B78-872E-F60E5B1FC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BE2F-55FA-4583-B544-3F3918C0C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084920" y="436752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A4F0-85CB-45E6-A5DC-8F322B50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084920" y="2060640"/>
            <a:ext cx="351396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94920" y="4367520"/>
            <a:ext cx="7201080" cy="21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7CFB-7CD6-4D1F-B930-F7A15B06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4A13-4422-47BC-A756-CC088095FF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394920" y="2060640"/>
            <a:ext cx="720108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743040" indent="-285840">
              <a:spcBef>
                <a:spcPts val="799"/>
              </a:spcBef>
              <a:buClr>
                <a:srgbClr val="ffff00"/>
              </a:buClr>
              <a:buSzPct val="9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1143000" indent="-22860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2057400" indent="-228600">
              <a:spcBef>
                <a:spcPts val="799"/>
              </a:spcBef>
              <a:buClr>
                <a:srgbClr val="ffff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7269120" y="1533600"/>
            <a:ext cx="1335240" cy="887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" name=""/>
          <p:cNvGraphicFramePr/>
          <p:nvPr/>
        </p:nvGraphicFramePr>
        <p:xfrm>
          <a:off x="6981840" y="260280"/>
          <a:ext cx="2054160" cy="138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1840" y="260280"/>
                    <a:ext cx="205416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8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F13E-AD3C-4BC6-9AEE-5813765803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Lucida Sans Unicod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Font typeface="Lucida Sans Unicode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image" Target="../media/image1.gi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ng"/><Relationship Id="rId7" Type="http://schemas.openxmlformats.org/officeDocument/2006/relationships/image" Target="../media/image8.jpe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.png"/><Relationship Id="rId10" Type="http://schemas.openxmlformats.org/officeDocument/2006/relationships/image" Target="../media/image7.jpeg"/><Relationship Id="rId11" Type="http://schemas.openxmlformats.org/officeDocument/2006/relationships/oleObject" Target="../embeddings/oleObject4.bin"/><Relationship Id="rId12" Type="http://schemas.openxmlformats.org/officeDocument/2006/relationships/image" Target="../media/image2.png"/><Relationship Id="rId13" Type="http://schemas.openxmlformats.org/officeDocument/2006/relationships/image" Target="../media/image10.jpeg"/><Relationship Id="rId14" Type="http://schemas.openxmlformats.org/officeDocument/2006/relationships/oleObject" Target="../embeddings/oleObject5.bin"/><Relationship Id="rId15" Type="http://schemas.openxmlformats.org/officeDocument/2006/relationships/image" Target="../media/image2.png"/><Relationship Id="rId16" Type="http://schemas.openxmlformats.org/officeDocument/2006/relationships/image" Target="../media/image9.jpeg"/><Relationship Id="rId17" Type="http://schemas.openxmlformats.org/officeDocument/2006/relationships/oleObject" Target="../embeddings/oleObject6.bin"/><Relationship Id="rId18" Type="http://schemas.openxmlformats.org/officeDocument/2006/relationships/image" Target="../media/image2.png"/><Relationship Id="rId19" Type="http://schemas.openxmlformats.org/officeDocument/2006/relationships/image" Target="../media/image12.jpeg"/><Relationship Id="rId20" Type="http://schemas.openxmlformats.org/officeDocument/2006/relationships/oleObject" Target="../embeddings/oleObject7.bin"/><Relationship Id="rId21" Type="http://schemas.openxmlformats.org/officeDocument/2006/relationships/image" Target="../media/image2.png"/><Relationship Id="rId22" Type="http://schemas.openxmlformats.org/officeDocument/2006/relationships/image" Target="../media/image14.jpeg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.png"/><Relationship Id="rId2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38224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A New Major League Team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11100" t="0" r="11100" b="0"/>
          <a:stretch/>
        </p:blipFill>
        <p:spPr>
          <a:xfrm>
            <a:off x="3492360" y="4508640"/>
            <a:ext cx="2303640" cy="17287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012000" y="4508640"/>
            <a:ext cx="2447640" cy="16570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900000" y="4508640"/>
            <a:ext cx="2303640" cy="1753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692360" y="808200"/>
            <a:ext cx="5838840" cy="1900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ffff"/>
                </a:solidFill>
                <a:latin typeface="Lucida Sans Unicode"/>
              </a:rPr>
              <a:t>The New Orleans Crawfish</a:t>
            </a:r>
            <a:endParaRPr b="0" lang="en-US" sz="2400" spc="1" strike="noStrike">
              <a:ln w="0">
                <a:noFill/>
              </a:ln>
              <a:solidFill>
                <a:srgbClr val="ffffff"/>
              </a:solidFill>
              <a:latin typeface="Lucida Sans Unicode"/>
              <a:ea typeface="Lucida Sans Unicode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3360600" y="1125360"/>
          <a:ext cx="2579760" cy="17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0600" y="1125360"/>
                    <a:ext cx="257976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3924360" y="2781360"/>
            <a:ext cx="1334880" cy="8874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7"/>
          <a:stretch/>
        </p:blipFill>
        <p:spPr>
          <a:xfrm>
            <a:off x="179280" y="189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28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4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26668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Runs Cre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76960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The Twins Collide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3524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James wants the best team possible, regardless of cost, but Jack wants to limit the starting team budget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62520" y="2657520"/>
            <a:ext cx="5181480" cy="420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Curveball Constraint and Assumption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dded Assumption: A player’s current annual salary is the best approximation of what the Crawfish would need to pay that player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Added Constraint: The total salary of all 9 players must not exceed $30 million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5638680" y="5062680"/>
            <a:ext cx="3505320" cy="17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1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5960" y="24919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Batting Averag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784872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2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56536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Slugging Perce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739152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3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4360" y="2498400"/>
            <a:ext cx="720072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OP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3276720"/>
            <a:ext cx="815328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4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86" name=""/>
          <p:cNvSpPr/>
          <p:nvPr/>
        </p:nvSpPr>
        <p:spPr>
          <a:xfrm>
            <a:off x="590400" y="261144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Runs Cre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9480" y="3276720"/>
            <a:ext cx="7772400" cy="236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Analysis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39640" y="3573360"/>
            <a:ext cx="8137800" cy="9558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468360" y="285264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Comparison of Tota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Conclusions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715000" y="4143240"/>
            <a:ext cx="3429000" cy="271476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95280" y="2060640"/>
            <a:ext cx="5256360" cy="44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Barry Bonds earns his paycheck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New talent, like Alfonso Soriano, is ke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After $30 million, diminishing marginal returns kick in significantly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Lucida Sans Unicode"/>
              </a:rPr>
              <a:t>Solver is limited in its capacity as an optimize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5950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586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Managerial Problem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2133360"/>
            <a:ext cx="7201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Twin brothers, James and Jack Crawfish, want to start a major league baseball team in New Orleans. They have hired us to identify the best possible team, based on the universe of current major league ballplayers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495680" y="5219640"/>
            <a:ext cx="1182960" cy="1638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638680" y="5202360"/>
            <a:ext cx="1197000" cy="1655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209680" y="5226120"/>
            <a:ext cx="1179720" cy="1631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3352680" y="5211720"/>
            <a:ext cx="1189080" cy="16462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6781680" y="5213520"/>
            <a:ext cx="1189080" cy="164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066680" y="5213520"/>
            <a:ext cx="1189080" cy="164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7954920" y="5213520"/>
            <a:ext cx="1189080" cy="16444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8"/>
          <a:stretch/>
        </p:blipFill>
        <p:spPr>
          <a:xfrm>
            <a:off x="0" y="5213520"/>
            <a:ext cx="1189080" cy="164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Decision Variables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3680" y="2358720"/>
            <a:ext cx="6603840" cy="11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  <a:ea typeface="Times New Roman"/>
              </a:rPr>
              <a:t>The 9 players to acquire for the starting lineup.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954920" y="5213520"/>
            <a:ext cx="1189080" cy="1646640"/>
            <a:chOff x="7954920" y="5213520"/>
            <a:chExt cx="1189080" cy="1646640"/>
          </a:xfrm>
        </p:grpSpPr>
        <p:pic>
          <p:nvPicPr>
            <p:cNvPr id="113" name="" descr=""/>
            <p:cNvPicPr/>
            <p:nvPr/>
          </p:nvPicPr>
          <p:blipFill>
            <a:blip r:embed="rId1"/>
            <a:stretch/>
          </p:blipFill>
          <p:spPr>
            <a:xfrm>
              <a:off x="7954920" y="5213520"/>
              <a:ext cx="11890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822312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8244000" y="5229360"/>
            <a:ext cx="768240" cy="5191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244000" y="5229360"/>
                      <a:ext cx="76824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17" name=""/>
          <p:cNvGrpSpPr/>
          <p:nvPr/>
        </p:nvGrpSpPr>
        <p:grpSpPr>
          <a:xfrm>
            <a:off x="6781680" y="5213520"/>
            <a:ext cx="1189080" cy="1646640"/>
            <a:chOff x="6781680" y="5213520"/>
            <a:chExt cx="1189080" cy="1646640"/>
          </a:xfrm>
        </p:grpSpPr>
        <p:pic>
          <p:nvPicPr>
            <p:cNvPr id="118" name="" descr=""/>
            <p:cNvPicPr/>
            <p:nvPr/>
          </p:nvPicPr>
          <p:blipFill>
            <a:blip r:embed="rId4"/>
            <a:stretch/>
          </p:blipFill>
          <p:spPr>
            <a:xfrm>
              <a:off x="6781680" y="5213520"/>
              <a:ext cx="11890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694836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7020000" y="5229360"/>
            <a:ext cx="718920" cy="4856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20000" y="5229360"/>
                      <a:ext cx="71892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2" name=""/>
          <p:cNvGrpSpPr/>
          <p:nvPr/>
        </p:nvGrpSpPr>
        <p:grpSpPr>
          <a:xfrm>
            <a:off x="5638680" y="5202360"/>
            <a:ext cx="1197000" cy="1657800"/>
            <a:chOff x="5638680" y="5202360"/>
            <a:chExt cx="1197000" cy="1657800"/>
          </a:xfrm>
        </p:grpSpPr>
        <p:pic>
          <p:nvPicPr>
            <p:cNvPr id="123" name="" descr=""/>
            <p:cNvPicPr/>
            <p:nvPr/>
          </p:nvPicPr>
          <p:blipFill>
            <a:blip r:embed="rId7"/>
            <a:stretch/>
          </p:blipFill>
          <p:spPr>
            <a:xfrm>
              <a:off x="5638680" y="5202360"/>
              <a:ext cx="1197000" cy="16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586728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25" name=""/>
            <p:cNvGraphicFramePr/>
            <p:nvPr/>
          </p:nvGraphicFramePr>
          <p:xfrm>
            <a:off x="5940360" y="5229360"/>
            <a:ext cx="719280" cy="4856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940360" y="5229360"/>
                      <a:ext cx="71928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27" name=""/>
          <p:cNvGrpSpPr/>
          <p:nvPr/>
        </p:nvGrpSpPr>
        <p:grpSpPr>
          <a:xfrm>
            <a:off x="4495680" y="5219640"/>
            <a:ext cx="1182960" cy="1640520"/>
            <a:chOff x="4495680" y="5219640"/>
            <a:chExt cx="1182960" cy="1640520"/>
          </a:xfrm>
        </p:grpSpPr>
        <p:pic>
          <p:nvPicPr>
            <p:cNvPr id="128" name="" descr=""/>
            <p:cNvPicPr/>
            <p:nvPr/>
          </p:nvPicPr>
          <p:blipFill>
            <a:blip r:embed="rId10"/>
            <a:stretch/>
          </p:blipFill>
          <p:spPr>
            <a:xfrm>
              <a:off x="4495680" y="5219640"/>
              <a:ext cx="118296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71636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0" name=""/>
            <p:cNvGraphicFramePr/>
            <p:nvPr/>
          </p:nvGraphicFramePr>
          <p:xfrm>
            <a:off x="4716360" y="5300640"/>
            <a:ext cx="719280" cy="48564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31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716360" y="5300640"/>
                      <a:ext cx="71928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2" name=""/>
          <p:cNvGrpSpPr/>
          <p:nvPr/>
        </p:nvGrpSpPr>
        <p:grpSpPr>
          <a:xfrm>
            <a:off x="3352680" y="5211720"/>
            <a:ext cx="1189080" cy="1648440"/>
            <a:chOff x="3352680" y="5211720"/>
            <a:chExt cx="1189080" cy="1648440"/>
          </a:xfrm>
        </p:grpSpPr>
        <p:pic>
          <p:nvPicPr>
            <p:cNvPr id="133" name="" descr=""/>
            <p:cNvPicPr/>
            <p:nvPr/>
          </p:nvPicPr>
          <p:blipFill>
            <a:blip r:embed="rId13"/>
            <a:stretch/>
          </p:blipFill>
          <p:spPr>
            <a:xfrm>
              <a:off x="3352680" y="5211720"/>
              <a:ext cx="1189080" cy="164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49236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3635280" y="5229360"/>
            <a:ext cx="719280" cy="48564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635280" y="5229360"/>
                      <a:ext cx="71928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37" name=""/>
          <p:cNvGrpSpPr/>
          <p:nvPr/>
        </p:nvGrpSpPr>
        <p:grpSpPr>
          <a:xfrm>
            <a:off x="2209680" y="5226120"/>
            <a:ext cx="1179720" cy="1634040"/>
            <a:chOff x="2209680" y="5226120"/>
            <a:chExt cx="1179720" cy="1634040"/>
          </a:xfrm>
        </p:grpSpPr>
        <p:pic>
          <p:nvPicPr>
            <p:cNvPr id="138" name="" descr=""/>
            <p:cNvPicPr/>
            <p:nvPr/>
          </p:nvPicPr>
          <p:blipFill>
            <a:blip r:embed="rId16"/>
            <a:stretch/>
          </p:blipFill>
          <p:spPr>
            <a:xfrm>
              <a:off x="2209680" y="5226120"/>
              <a:ext cx="1179720" cy="16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248436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40" name=""/>
            <p:cNvGraphicFramePr/>
            <p:nvPr/>
          </p:nvGraphicFramePr>
          <p:xfrm>
            <a:off x="2411280" y="5229360"/>
            <a:ext cx="719280" cy="4856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4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411280" y="5229360"/>
                      <a:ext cx="71928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2" name=""/>
          <p:cNvGrpSpPr/>
          <p:nvPr/>
        </p:nvGrpSpPr>
        <p:grpSpPr>
          <a:xfrm>
            <a:off x="1042920" y="5213520"/>
            <a:ext cx="1189080" cy="1646640"/>
            <a:chOff x="1042920" y="5213520"/>
            <a:chExt cx="1189080" cy="1646640"/>
          </a:xfrm>
        </p:grpSpPr>
        <p:pic>
          <p:nvPicPr>
            <p:cNvPr id="143" name="" descr=""/>
            <p:cNvPicPr/>
            <p:nvPr/>
          </p:nvPicPr>
          <p:blipFill>
            <a:blip r:embed="rId19"/>
            <a:stretch/>
          </p:blipFill>
          <p:spPr>
            <a:xfrm>
              <a:off x="1042920" y="5213520"/>
              <a:ext cx="118908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63520" y="5668920"/>
              <a:ext cx="741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45" name=""/>
            <p:cNvGraphicFramePr/>
            <p:nvPr/>
          </p:nvGraphicFramePr>
          <p:xfrm>
            <a:off x="1308240" y="5229360"/>
            <a:ext cx="718920" cy="48564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146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1308240" y="5229360"/>
                      <a:ext cx="71892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"/>
          <p:cNvGrpSpPr/>
          <p:nvPr/>
        </p:nvGrpSpPr>
        <p:grpSpPr>
          <a:xfrm>
            <a:off x="-36360" y="5213520"/>
            <a:ext cx="1188720" cy="1644480"/>
            <a:chOff x="-36360" y="5213520"/>
            <a:chExt cx="1188720" cy="1644480"/>
          </a:xfrm>
        </p:grpSpPr>
        <p:pic>
          <p:nvPicPr>
            <p:cNvPr id="148" name="" descr=""/>
            <p:cNvPicPr/>
            <p:nvPr/>
          </p:nvPicPr>
          <p:blipFill>
            <a:blip r:embed="rId22"/>
            <a:stretch/>
          </p:blipFill>
          <p:spPr>
            <a:xfrm>
              <a:off x="-36360" y="5213520"/>
              <a:ext cx="1188720" cy="164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42560" y="5624640"/>
              <a:ext cx="741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Arial Black"/>
                </a:rPr>
                <a:t>?</a:t>
              </a:r>
              <a:endParaRPr b="0" lang="en-US" sz="7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0" name=""/>
            <p:cNvGraphicFramePr/>
            <p:nvPr/>
          </p:nvGraphicFramePr>
          <p:xfrm>
            <a:off x="214200" y="5300640"/>
            <a:ext cx="718560" cy="485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14200" y="5300640"/>
                      <a:ext cx="718560" cy="485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5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Assumptions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533600"/>
            <a:ext cx="7848720" cy="42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Owners only need starting roster of 9 player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Pitchers should be judged only on ERA. All other positions are judged only by offensive statistics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2002 statistics are representative of future player performance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All players are available (free agency galore and bottomless pockets)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marL="318960" indent="-318960">
              <a:lnSpc>
                <a:spcPct val="90000"/>
              </a:lnSpc>
              <a:spcBef>
                <a:spcPts val="675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ere are no synergies in a batting order. We aim to select the best possible player for each position, discounting how they might affect one another.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Constraints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000" y="2212560"/>
            <a:ext cx="70563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No more or less than 9 players in the lineup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No more or less than 1 player per position. For the outfield, we assume any outfielder could play center, right or leftfield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Roster must have fielding percentage greater than 97%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No designated hitter permitted in lineup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Pitcher must have ERA of less than 3.00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Non-pitchers must have had at least 100 at bats in 2002.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4 Scenarios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95280" y="1460520"/>
            <a:ext cx="763272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Lucida Sans Unicode"/>
              </a:rPr>
              <a:t>Offensive Player Performance Measurements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Batting Average: BA = Hits / At Bats. A conventional measure, familiar to the client and public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Slugging Percentage: Total Bases / At Bats. Treats extra-base hits as more valuable than singles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OPS: OPS equals On-base Percentage + Slugging Percentage. Takes into account walks.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98400" indent="-268560">
              <a:lnSpc>
                <a:spcPct val="90000"/>
              </a:lnSpc>
              <a:spcBef>
                <a:spcPts val="575"/>
              </a:spcBef>
              <a:buClr>
                <a:srgbClr val="ffff00"/>
              </a:buClr>
              <a:buSzPct val="90000"/>
              <a:buFont typeface="Lucida Sans Unico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Lucida Sans Unicode"/>
              </a:rPr>
              <a:t>Runs Created: RC = (Hits + Walks) * (Total Bases) / (Plate Appearances). Attempts to quantify the entire contribution of a player's statistics to a team's total runs scored. </a:t>
            </a:r>
            <a:endParaRPr b="0" lang="en-US" sz="2300" spc="-1" strike="noStrike">
              <a:solidFill>
                <a:srgbClr val="ffffff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1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11280" y="2468520"/>
            <a:ext cx="72007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Batting Average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5800" y="3124080"/>
            <a:ext cx="7315200" cy="27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2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249228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Slugging Percent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5800" y="3200400"/>
            <a:ext cx="7696080" cy="25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633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Lucida Sans Unicode"/>
              </a:rPr>
              <a:t>Scenario 3</a:t>
            </a:r>
            <a:endParaRPr b="0" lang="en-US" sz="4400" spc="-1" strike="noStrike">
              <a:solidFill>
                <a:srgbClr val="ffcc66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1280" y="2498400"/>
            <a:ext cx="7200720" cy="42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Lucida Sans Unicode"/>
              </a:rPr>
              <a:t>Performance By OPS</a:t>
            </a:r>
            <a:endParaRPr b="0" lang="en-US" sz="24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85800" y="3276720"/>
            <a:ext cx="8077320" cy="21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9T19:39:38Z</dcterms:created>
  <dc:creator> </dc:creator>
  <dc:description/>
  <dc:language>en-US</dc:language>
  <cp:lastModifiedBy>Stern School</cp:lastModifiedBy>
  <dcterms:modified xsi:type="dcterms:W3CDTF">2002-12-11T02:39:04Z</dcterms:modified>
  <cp:revision>30</cp:revision>
  <dc:subject/>
  <dc:title>Making A Team</dc:title>
</cp:coreProperties>
</file>